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547-E942-4525-92ED-0ED9F5A87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76C8-624F-4863-B763-EF4187D3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655-40A3-4BAC-B1D7-70BAFD25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A23-D4EC-4852-B123-486C25DA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CF7-EE5B-46B8-9B1B-7C4D41FD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AC7-7416-4B26-9A0C-829D04E2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A97-95ED-44D9-8B2C-8665CFE7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AD5-0EEE-42FB-9184-B2CA512C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B06-4073-49F7-959C-81809991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E66-3419-4849-90E3-579E5989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11B-8523-41D4-82F1-94F7ECE4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C7B-4E62-4DA0-9FF3-A6508CE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0B2-201D-4A50-8191-514DDF75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77A-E6FE-45CD-8D9C-85344AA0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1BFC-4F10-4F60-B305-29C076908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ina Lab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mina Labane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257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28600" y="502920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765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e llamo es Amina &lt;3 Yo vivo en New York City. Tengo catorce años. Tengo no hermanos. Yo soy divertida y simpatica. Yo soy feliz!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En una realacion con Justi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029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5715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83808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95480" y="3886200"/>
            <a:ext cx="49532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95480" y="327672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Just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cho Gusto. Tu eres muy bonita. ¿Puedes ir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10 minutes ago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95480" y="266688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4419720"/>
            <a:ext cx="49532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0 minutes ago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95480" y="495288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hour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95480" y="563868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¿Como estás mi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Screen Shot 2012-12-04 at 9.53.06 AM.png"/>
          <p:cNvPicPr/>
          <p:nvPr/>
        </p:nvPicPr>
        <p:blipFill>
          <a:blip r:embed="rId1"/>
          <a:stretch/>
        </p:blipFill>
        <p:spPr>
          <a:xfrm>
            <a:off x="2133720" y="259092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Screen Shot 2012-12-04 at 9.56.14 AM.png"/>
          <p:cNvPicPr/>
          <p:nvPr/>
        </p:nvPicPr>
        <p:blipFill>
          <a:blip r:embed="rId2"/>
          <a:stretch/>
        </p:blipFill>
        <p:spPr>
          <a:xfrm>
            <a:off x="2133720" y="3276720"/>
            <a:ext cx="533160" cy="52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Screen Shot 2012-12-04 at 9.56.14 AM.png"/>
          <p:cNvPicPr/>
          <p:nvPr/>
        </p:nvPicPr>
        <p:blipFill>
          <a:blip r:embed="rId3"/>
          <a:stretch/>
        </p:blipFill>
        <p:spPr>
          <a:xfrm>
            <a:off x="152280" y="4495680"/>
            <a:ext cx="559080" cy="55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6" descr="Screen Shot 2012-12-04 at 9.53.06 AM.png"/>
          <p:cNvPicPr/>
          <p:nvPr/>
        </p:nvPicPr>
        <p:blipFill>
          <a:blip r:embed="rId4"/>
          <a:stretch/>
        </p:blipFill>
        <p:spPr>
          <a:xfrm>
            <a:off x="1143000" y="4495680"/>
            <a:ext cx="655560" cy="52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Photo on 12-5-12 at 9.47 AM #4.jpg"/>
          <p:cNvPicPr/>
          <p:nvPr/>
        </p:nvPicPr>
        <p:blipFill>
          <a:blip r:embed="rId5"/>
          <a:stretch/>
        </p:blipFill>
        <p:spPr>
          <a:xfrm>
            <a:off x="152280" y="1371600"/>
            <a:ext cx="1524240" cy="101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Photo on 12-5-12 at 9.47 AM.jpg"/>
          <p:cNvPicPr/>
          <p:nvPr/>
        </p:nvPicPr>
        <p:blipFill>
          <a:blip r:embed="rId6"/>
          <a:stretch/>
        </p:blipFill>
        <p:spPr>
          <a:xfrm>
            <a:off x="152280" y="5334120"/>
            <a:ext cx="609840" cy="40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Photo on 12-5-12 at 9.47 AM.jpg"/>
          <p:cNvPicPr/>
          <p:nvPr/>
        </p:nvPicPr>
        <p:blipFill>
          <a:blip r:embed="rId7"/>
          <a:stretch/>
        </p:blipFill>
        <p:spPr>
          <a:xfrm>
            <a:off x="2057400" y="3886200"/>
            <a:ext cx="60948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2895480" y="2590920"/>
            <a:ext cx="5029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@Justin, Amina no puedes ir tu casa. Ellas ir a comprar con mi y Jamie.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5 minute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895480" y="3809880"/>
            <a:ext cx="4953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ro ir a compr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 ago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620120" y="5486400"/>
            <a:ext cx="43434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 ago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41Z</dcterms:modified>
  <cp:revision>110</cp:revision>
  <dc:subject/>
  <dc:title>Profile</dc:title>
</cp:coreProperties>
</file>